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FB1-CFBF-4BA7-8B63-CE0E927B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801-1EB3-4F53-AFC1-4FB25DFE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F1A-3E1A-4367-997E-FF6AE658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CB2-60FF-41B5-B2E6-AA348D80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36E6-FDA2-41AB-BC01-6D10E193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01DB-DA97-4072-A5F9-A9C53AD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7D5C-E309-4F75-A399-8E4181E3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6C40-6C8D-4E78-B0AA-F77EAAF0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2F00-FF64-4178-BB62-4FADF31D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90C-123C-4916-A825-C209AA63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DEC2-9538-4218-9DE3-7E1ED4E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A7E-B86F-42C4-AD56-0B696B7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0487-0D73-4A22-8BD0-E275645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EE5C-96A2-4BD7-B221-3A35F7E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E088-B054-4CB2-948D-C0AB6BB9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ED6-3992-4B9D-8181-8B627AC3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273B-3AE9-4736-A336-F646396A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A4F-5D34-46BF-AFC6-D2853F1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7F8-4C6B-4EDD-BD66-EAD2E2D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71B-C5D1-4885-80EB-9BEFD88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753-ACAE-4A14-8B74-B3A9F481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AB9-B8B1-4BB3-9D3C-3D9D408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821-1517-469B-AAD0-50350BE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579-6784-4745-A684-2779BDCF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81F-DB9B-4B9A-BF0C-F220F51C0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7BC3-71C1-4DF8-9D01-C23AD82B17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Declaration of Independence and Revolutionary War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lonists Grievances Before Revolutionary War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ed 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d Western L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ion of Colonial Cur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rtering and stamp 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asons for Declaration of Independenc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ce from Engl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ing 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purpose of government is to protect r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 of government is from the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the ar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taxation without re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alienable Right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of personal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of personal liber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to acquire and enjo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overnment Abuse of Power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right of the people to “throw off” the Government and provide “new Guards for their future security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nited States Territory After Treaty of Par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ada and Nova Sco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23:05Z</dcterms:created>
  <dc:creator>Yarmouth Schools</dc:creator>
  <dc:description/>
  <dc:language>en-US</dc:language>
  <cp:lastModifiedBy>YHS Teacher</cp:lastModifiedBy>
  <dcterms:modified xsi:type="dcterms:W3CDTF">2009-06-12T00:37:27Z</dcterms:modified>
  <cp:revision>4</cp:revision>
  <dc:subject/>
  <dc:title>Declaration of Independence and Revolutionary War</dc:title>
</cp:coreProperties>
</file>